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2F0-FBE3-405C-8CFF-AC87443E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380-1C86-4576-BF0A-3B8712E9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E2F-E8A3-4704-A513-CB1F8319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F84-7B1F-4613-938A-159D2E11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440-68CB-4E75-8907-4A17771C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C03-D6BB-4B70-836F-032EF4F9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184-6055-48A3-96E7-084C9110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FC5-40F6-4740-9FED-B002DF9D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76E-D853-4F55-8218-799BCB2B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EE2-E299-489A-9AB6-0D49535D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3BC-DA09-4863-9AAE-56265D90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029-D6A8-47E1-AE81-14AAB895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9FE7-0910-4050-8DE4-1D6E9D7A1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re ortholo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True homology of molecular sequences,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descended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n toto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from the same ancestral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Orthologous sequences exist in only one copy per organism, and can accurately reflect the phylogenetic relationships of species (cf. paralogy, plerology, xenology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www.science.uts.edu.au/sasb/glossa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6924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67652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Speci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Number of Gen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Homolo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input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grouped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sapi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2,5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722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6,4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muscu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3,8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676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7,7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norvegic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0,9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410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5,9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melanogaster      12,6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49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5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amb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1,9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8,451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4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ele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8,7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77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5,2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pom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4,94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cerevis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8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13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cr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0,0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1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gris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1,1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thaliana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6,3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0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4,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falcipa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2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1,77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,5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200400" y="-6629400"/>
            <a:ext cx="15544800" cy="20104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300720" cy="81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77384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.  “Ne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40"/>
                </a:solidFill>
                <a:latin typeface="Arial"/>
              </a:rPr>
              <a:t>Conserved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Within Syntenic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.  “F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it hard to identify orthologs?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Quality of Genome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holes; ortholog to query sequence may live in one such 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undetected </a:t>
            </a:r>
            <a:r>
              <a:rPr b="0" i="1" lang="en-US" sz="2000" spc="-1" strike="noStrike" u="sng">
                <a:solidFill>
                  <a:srgbClr val="800040"/>
                </a:solidFill>
                <a:uFillTx/>
                <a:latin typeface="Arial"/>
              </a:rPr>
              <a:t>mis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assemblies; ortholog tests may fail because there is apparently not a 1:1 m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tend to collapse near-identical clu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Quality of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Ortholog of query sequence may not have been annotated (at all / correct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Creating gene models in near-identical gene clusters can be challen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lities of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ansion and contractions of repeated gene fami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ltiple transcripts per “ge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seudogenes vs. true 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058480" y="1905120"/>
            <a:ext cx="4685400" cy="3050280"/>
            <a:chOff x="2058480" y="1905120"/>
            <a:chExt cx="4685400" cy="3050280"/>
          </a:xfrm>
        </p:grpSpPr>
        <p:grpSp>
          <p:nvGrpSpPr>
            <p:cNvPr id="50" name=""/>
            <p:cNvGrpSpPr/>
            <p:nvPr/>
          </p:nvGrpSpPr>
          <p:grpSpPr>
            <a:xfrm>
              <a:off x="2058480" y="1905120"/>
              <a:ext cx="4685400" cy="2666520"/>
              <a:chOff x="2058480" y="1905120"/>
              <a:chExt cx="4685400" cy="26665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286000" y="2438280"/>
                <a:ext cx="4266720" cy="2133360"/>
                <a:chOff x="2286000" y="2438280"/>
                <a:chExt cx="4266720" cy="21333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286000" y="2438280"/>
                  <a:ext cx="213336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4419000" y="2438280"/>
                  <a:ext cx="213372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62160" y="2438280"/>
                  <a:ext cx="1295640" cy="1295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20584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6586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2556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191840" y="449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905120" y="2286000"/>
            <a:ext cx="4267080" cy="2133360"/>
            <a:chOff x="1905120" y="2286000"/>
            <a:chExt cx="4267080" cy="2133360"/>
          </a:xfrm>
        </p:grpSpPr>
        <p:sp>
          <p:nvSpPr>
            <p:cNvPr id="60" name=""/>
            <p:cNvSpPr/>
            <p:nvPr/>
          </p:nvSpPr>
          <p:spPr>
            <a:xfrm>
              <a:off x="1905120" y="228600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038840" y="228600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1640" y="2286000"/>
              <a:ext cx="129528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8120" y="1752480"/>
            <a:ext cx="3831840" cy="2136240"/>
            <a:chOff x="3048120" y="1752480"/>
            <a:chExt cx="3831840" cy="2136240"/>
          </a:xfrm>
        </p:grpSpPr>
        <p:sp>
          <p:nvSpPr>
            <p:cNvPr id="64" name=""/>
            <p:cNvSpPr/>
            <p:nvPr/>
          </p:nvSpPr>
          <p:spPr>
            <a:xfrm>
              <a:off x="304812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1500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3240" y="34290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601280" y="1752480"/>
            <a:ext cx="2628360" cy="3126600"/>
            <a:chOff x="1601280" y="1752480"/>
            <a:chExt cx="2628360" cy="3126600"/>
          </a:xfrm>
        </p:grpSpPr>
        <p:sp>
          <p:nvSpPr>
            <p:cNvPr id="68" name=""/>
            <p:cNvSpPr/>
            <p:nvPr/>
          </p:nvSpPr>
          <p:spPr>
            <a:xfrm>
              <a:off x="1601280" y="1752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11320" y="44193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4864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66880" y="1600200"/>
            <a:ext cx="3222360" cy="2136240"/>
            <a:chOff x="2666880" y="1600200"/>
            <a:chExt cx="3222360" cy="2136240"/>
          </a:xfrm>
        </p:grpSpPr>
        <p:sp>
          <p:nvSpPr>
            <p:cNvPr id="72" name=""/>
            <p:cNvSpPr/>
            <p:nvPr/>
          </p:nvSpPr>
          <p:spPr>
            <a:xfrm>
              <a:off x="2666880" y="16002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327672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76520" y="2133720"/>
            <a:ext cx="4266720" cy="2133360"/>
            <a:chOff x="1676520" y="2133720"/>
            <a:chExt cx="4266720" cy="2133360"/>
          </a:xfrm>
        </p:grpSpPr>
        <p:sp>
          <p:nvSpPr>
            <p:cNvPr id="75" name=""/>
            <p:cNvSpPr/>
            <p:nvPr/>
          </p:nvSpPr>
          <p:spPr>
            <a:xfrm>
              <a:off x="1676520" y="213372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809520" y="213372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2133720"/>
              <a:ext cx="129564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2133720"/>
              <a:ext cx="60984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409000" y="2590920"/>
            <a:ext cx="17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49000" y="1600200"/>
            <a:ext cx="2551680" cy="3202920"/>
            <a:chOff x="1449000" y="1600200"/>
            <a:chExt cx="2551680" cy="3202920"/>
          </a:xfrm>
        </p:grpSpPr>
        <p:sp>
          <p:nvSpPr>
            <p:cNvPr id="82" name=""/>
            <p:cNvSpPr/>
            <p:nvPr/>
          </p:nvSpPr>
          <p:spPr>
            <a:xfrm>
              <a:off x="1449000" y="1600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82360" y="4343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should MODs represent orthology, similarity, paralogy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Each tub on its own bottom - do your own 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Encourages crea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No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Pool resources -  compute common set of simil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ome MOD group has to run the comp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tal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Ask multiple groups to periodically compute orthology relationships according to their own criteria on the latest snapshots of our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No attempt to annoint the “best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an blame other groups who are doing th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Limited by the approaches of outsid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proce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Supposing we adopt approaches 2 o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at data set do we prov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final transcripts and protei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Proteins on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proteins or one per “gene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Do we only represent best hits?  Gene families?  O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create robust reciprocal lin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ich genomes do we comp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often do we recompute orthologies/similari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keep all this in syn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3:29:29Z</dcterms:created>
  <dc:creator>William M. Gelbart</dc:creator>
  <dc:description/>
  <dc:language>en-US</dc:language>
  <cp:lastModifiedBy>William M. Gelbart</cp:lastModifiedBy>
  <dcterms:modified xsi:type="dcterms:W3CDTF">2004-04-28T14:15:21Z</dcterms:modified>
  <cp:revision>38</cp:revision>
  <dc:subject/>
  <dc:title>PowerPoint Presentation</dc:title>
</cp:coreProperties>
</file>